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E96C-76CF-43CE-AF6D-108CEE0C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236-80D5-45C5-854D-6BA1D618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DE9-42F5-40F3-8B62-C6F80D78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028-5A43-4A21-8CCD-7483C600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82C-4F8D-4FE4-8EDE-E915BA75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599-7709-46EA-8ECF-85BB7049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4C0-1E61-435D-B14B-CFBD7160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AD0-95CC-40D5-AC08-49AA8CDE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3B7-B2A1-42D3-B662-ABF17571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F32-318E-48AF-B679-90D3E841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A0D-CAA4-4FF1-B6A3-130F3F3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4C6-3CB4-4A64-B533-64E63110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7522-7A27-4B34-AA3B-E6893B69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racle.com/technetwork/database/express-edition/downloads/index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are server O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LARGE ORACLE logo.png"/>
          <p:cNvPicPr/>
          <p:nvPr/>
        </p:nvPicPr>
        <p:blipFill>
          <a:blip r:embed="rId1"/>
          <a:stretch/>
        </p:blipFill>
        <p:spPr>
          <a:xfrm>
            <a:off x="2438280" y="152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ul se afla la adre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racle.com/technetwork/database/express-edition/downloads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-ul catr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55640" y="1352520"/>
            <a:ext cx="5811840" cy="5200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0800000">
            <a:off x="4267080" y="4267080"/>
            <a:ext cx="1905120" cy="53352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a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pa instalare, va logati cu contul s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495680" cy="413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10800000">
            <a:off x="6248160" y="5181480"/>
            <a:ext cx="1904760" cy="533520"/>
          </a:xfrm>
          <a:custGeom>
            <a:avLst/>
            <a:gdLst>
              <a:gd name="textAreaLeft" fmla="*/ 237960 w 1904760"/>
              <a:gd name="textAreaRight" fmla="*/ 1666800 w 19047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a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inuare alegti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396200" cy="312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47920" y="5486400"/>
            <a:ext cx="609480" cy="1143000"/>
          </a:xfrm>
          <a:prstGeom prst="upArrow">
            <a:avLst>
              <a:gd name="adj1" fmla="val 50000"/>
              <a:gd name="adj2" fmla="val 46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4148280" cy="1741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8229600" cy="265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rot="10800000">
            <a:off x="3634920" y="3081240"/>
            <a:ext cx="1752840" cy="533520"/>
          </a:xfrm>
          <a:custGeom>
            <a:avLst/>
            <a:gdLst>
              <a:gd name="textAreaLeft" fmla="*/ 218880 w 1752840"/>
              <a:gd name="textAreaRight" fmla="*/ 1533960 w 175284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1295640" cy="45720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235000">
            <a:off x="6781320" y="3505320"/>
            <a:ext cx="1295640" cy="53316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07:06:25Z</dcterms:created>
  <dc:creator>tomsa.gelu</dc:creator>
  <dc:description/>
  <dc:language>en-US</dc:language>
  <cp:lastModifiedBy>tomsa.gelu</cp:lastModifiedBy>
  <dcterms:modified xsi:type="dcterms:W3CDTF">2011-10-26T08:01:29Z</dcterms:modified>
  <cp:revision>3</cp:revision>
  <dc:subject/>
  <dc:title>Instalare server Oracle</dc:title>
</cp:coreProperties>
</file>